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5AF-E762-40C4-B296-EED80F49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836-A754-4CFA-8ED5-BAF74158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B007B-A740-4DE9-84EE-3047F589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99C6E-2A12-41A7-857E-0AB6C682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28D12-0F68-452A-9B88-E70EC81D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3CC25-DA77-4185-B452-3CBBEF25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7628E-315E-4200-AD8A-D65AEEC3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0579C-44DC-4EA2-97A0-5D493C39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6E62B-7A14-430A-A760-396F163F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0A2EF-A451-401C-A628-BE505AE4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80218-DEE6-402A-AEDF-5D2CBB49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9711F-7F7D-41A8-84C3-13D462BE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03A-988C-4AE0-87E1-8E48DE05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905EC-4633-4EC1-B554-FDE19DC4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FF94B-2B81-4602-A36D-817CE34B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45285-9342-4A08-BB23-60A61012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52C4D-2711-4DE4-8811-95A84CA3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F3A40-1F69-44B1-8B13-8D7A7082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29008-964D-4D35-9C83-E84616B8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C5E63-37EB-40F6-B2BF-4133D53B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517D9-8C3E-46E4-8F94-502CCC42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E1D86-637F-4F23-9782-54086714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FBB71-E5E9-44F0-8D4B-FACDB3FF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A60-42CA-4CB1-8618-304B98BE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77DEB-52DC-4384-985C-7150DFEE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FC6B4-D17A-455A-AD2A-A04345F2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DC62F-9187-42EE-8ED4-E5A70BC5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E3E5F-5609-4761-ADC7-D2220CDD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050A9-000A-44E8-B2EC-049C1BBB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513A2-1E69-4304-A133-421F53EB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D307E-5D3E-4B37-A29F-568E6332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D7000-D647-4079-B10D-1F394D9F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21EA3-100D-48C1-8A33-018D1D6C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362D6-9C4D-4856-B7CD-62FF41D3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4E1B-BC4B-4068-98C9-A89EE018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D7FF6-207D-4E75-9A9D-6DD5DABA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16B29-7E4C-4EC4-906F-DF4CA838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A1052-DE84-44B1-9717-76FB67E2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5FFC2-81F0-4A58-A065-45F9EAAA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21C64-EE0F-4D2F-A077-DDE1D254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C6F3D-C08E-4FF9-9B3E-B844F794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5D623-B8B4-4908-B4B2-5F0828C0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24987-91A6-4A6B-9F11-CE2148E7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CE34E-EB8A-4460-8156-88D6E1FA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59D16-860E-4394-A6C6-C8CD8402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9A2A-86E2-454D-B81E-D2ECE6A7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17FD4-E1B8-41B1-AF5B-621DBE21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45545-6634-4522-B418-F50FA739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7F8C1-B290-4132-96A7-A20B50CC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11E39-AC70-4931-A831-05D79EAA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D83F4-88CA-4A69-8601-28BBB2AF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9A81-B2D9-46EE-A57F-B7E988D6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0C33-8744-4125-84DA-71E38BBF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CA4D-1A4C-4C6F-ACD2-02E2DD35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DE2C-3FE2-4A47-BF0A-AF2FB925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DF38-AE70-4122-A01B-DB944FAE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803-F29D-4F40-8319-525FF62A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1CFA-57FC-417D-8145-6A29E749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FAB8-E429-4BC5-9FE2-75563186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6CA2-EA3A-4311-8C26-D3D34A15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ED2C-DB8B-4D73-9AF6-604F99A8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00AD-4F53-4DD6-B3E2-68747395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14E6E-6C65-4C24-9225-B9661CF2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90218-321A-4758-893C-9734B8AA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D01CD-D0EE-40D8-A66C-1A04686C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E719D-EE50-47CC-9189-EC3F4D37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2110D-7122-4F21-BCC7-851F35EC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8473-C796-4FF5-8E57-82882AFF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676A1-28E0-4C89-9869-5348ED48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EF45D-F104-4CF7-94BE-7D742064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95271-DE71-49E3-82AD-7962AB02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E7F2E-D83D-4251-AA3E-55B8C128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75D76-D536-48B5-B0E9-51B8023A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55F1F-5F0F-482B-B9C3-55B8E974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F43D2-C2B9-4920-985F-E78EE559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4F743-03D4-4545-AF57-0AEE21B9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B6562-6800-4ECA-AE67-D4F57E3A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1AE99-5825-4D51-9E44-650ADFE1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CD1-8B63-4FC8-A9DD-131B12BC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A3E74-05CB-49A2-A5AE-286ED981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740AA-CEA3-4D84-B23E-391725D5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C1E4C-65AB-461F-A2AC-67E52F10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116F6-2958-42CB-BF27-40C886A4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5CC5D-85AD-4039-8FAF-92BBD6C1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1E982-12E6-4FA8-8D7F-76662B6E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C951B-B880-4786-9205-C8136C99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A0005-3C70-4BC3-9E8F-D5AA6812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DD38B-C4FD-42A2-B59F-F100C7B3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6B324-4284-4D9B-9C71-C9ADFCA9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E4A-FE20-46E2-A3D4-BE0BB38E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49E11-17C1-490B-8D5C-DC42F254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10096-66B1-42A8-8CBB-42CFF238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5F1F0-A393-45C1-BA45-00FFD8CE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FEEA8-0117-444A-B5A2-33ECFF6C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3B6C7-25A7-4973-989F-A97F8790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46CA5-CFA3-46C1-945F-5C93604E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2B4E5-24A4-4F80-BB91-DA344642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BBE87-3C2A-4D69-844F-3CE4B660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1F0A0-80FA-45A9-87DC-5019883F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B1642-4328-44B4-B7ED-FFF523EA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5B3-0B00-4BDF-91B8-2475A725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142E9-61E2-4A93-8EBA-6F83B443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F5447-3240-459C-B781-0E01782A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A7411-814A-468C-8DDB-935836F2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7634E-9B4C-4BCD-A1C1-3E7C552C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1EACA-1AE7-47EC-BFA3-0C330F6A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85A6F-B470-4B79-AC0E-49884693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02829-6AFB-42DD-9917-003B12C9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E58D7-1438-4BE9-8632-69F04683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73137-4D20-4F8E-898E-175450EF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8A465-A3B9-4789-A34C-BFEA3222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42E2-99C4-4D01-9A51-463C6659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65B1A-38EA-401E-89F3-714598B3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0D67D-FE0F-45C8-9382-1C6BC2B0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02CA9-7200-425B-B8F4-3255F6B9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723D5-A916-4377-B9F8-7013F689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175D4-2BAF-4E21-9639-54A07D4A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54C1E-E762-4B18-90CF-94F4F4DE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7DD1F-D5ED-4C33-B4A2-AA5E1183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E282D-5162-4972-980E-EB65B660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38327-6CC4-4041-92D3-18DEC3B5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9119D-89BD-4C6A-ADC3-16360F5C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739-6C41-4FD8-BB12-4AE14CA3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9FAC8-B81E-4062-A2BE-741C1D3C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BD2A8-C669-499E-9A4D-D01D1A63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74057-F185-488E-BEBB-B9BC4784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53FB0-F057-415D-8136-7B8137F8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3894A-7FE6-4918-B32A-45EFCEC9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1DDEA-485F-48B4-A9F3-C6D108A4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26FFD-4B7D-4E13-A0AC-9840D42D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490B2-C11C-49F5-9996-3277E868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0FC3A-3F7F-476E-B30A-C828E156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21D09-E3F3-4B64-ABEC-FB127506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1E7D-746A-4E4A-8D67-3E20FA37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B6ED6-88AA-4E29-83C8-F44418D1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29C5E-1911-400D-8686-EC4D025B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D3F26-FDCF-4B7B-898B-276E8400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4343B-F1C8-4F14-B3BC-67211884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A8045-9948-4AF4-92A1-9A89CCB5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D2AEF-F3EF-4DDC-A3FF-8CCA089F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C8FD9-A20D-4FD5-BFAB-6B78C7C2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67999-5559-470C-94AD-22C0DFCA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5E2CE-6CFC-4AB2-AB30-9AC552AA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64918-8278-4421-A2A3-8311316D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2D7F-3EF3-40AA-983B-A17FCBC43FA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29B9-59F7-4577-B46D-55A77FED5F4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991C-3DF9-43F8-909C-F9AB118F31D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39CE-2593-4C3A-8D0A-12B6404124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336D-7D00-4F9A-BD83-A9944DA4F0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84D4-BAFD-4252-9843-364891CE730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2CC6-F3FF-4FCC-A94C-81ABDC91D94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4086-5F78-4D00-92D0-19066CD0079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5D46-9D01-4CCA-A9DE-6ED6BD08363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82E4-7C80-4F67-B3B7-C846CD751B4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D496-815E-47A6-80C3-6BF0A5A4D31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D5E8-500F-4F73-B82B-F9BF7898C90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77 Na Spasiteľa svoj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Spasiteľa svoj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pevne nádej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v drahých ranách je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droj večnej spásy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namiesto mňa sám šie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ž na kríž Golgot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moje viny zomre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yn Boží presvät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rdce moje žia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mi pomôcť v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trápenie sa vzdia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 tiesni so mnou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k jeho nohám kladi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kríž i star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srdce pokoj nájd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mier sa rozhost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– moja spá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najkrajšia je zv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život môj to hlá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blížnych k nemu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cesta, pravda is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život pram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hľadí len na Kris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 vždy byť blažený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6-11T15:22:43Z</dcterms:modified>
  <cp:revision>21</cp:revision>
  <dc:subject/>
  <dc:title>Je veľký náš Pán, on slávy je Kráľ Nech do všetkých strán  spev vrúcnych znie chvál.</dc:title>
</cp:coreProperties>
</file>